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B4-1DFC-4614-AE9A-FE980CB9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3B1-21E8-457B-8741-F7FFD8D8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532-92B8-4F33-91E2-6E284C52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CC3-BB32-40F0-B14A-857591F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C68-7274-4E8B-B9F4-7174BDA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9E7-CAD8-4C2D-B131-9CCC70DB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263-EFDF-4ACE-A256-DBBAE9B0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D96-E4E0-4796-89B1-2947394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190-8114-4D44-84BE-8DCB2842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04B-3213-4F1D-97ED-A269CA9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054-B0CF-42C6-92C9-F8C7C65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7A0-25F8-48C6-A380-B8C047C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AC5-28E6-4CBA-9539-331F053DE5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О «Гомельский городской социально-педагогически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714240"/>
            <a:ext cx="8715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емин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рмативные, правовые и организационные аспекты профилактики суицида в учреждениях образ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основы в работе по профилактике, диагностике и коррекции суицидального поведения детей 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ил: Плех Е.В., заведующий отделом профилактики и комплексной реабилитации СП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user\Desktop\kids-fun-drawing-5.jpg"/>
          <p:cNvPicPr/>
          <p:nvPr/>
        </p:nvPicPr>
        <p:blipFill>
          <a:blip r:embed="rId1"/>
          <a:stretch/>
        </p:blipFill>
        <p:spPr>
          <a:xfrm>
            <a:off x="3929040" y="4000680"/>
            <a:ext cx="476568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2920" y="285480"/>
            <a:ext cx="885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факторов риска суицидальных действий у ребенка субъекты профилактик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одного рабочего дн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ируют законного представителя несовершеннолетнего о возможност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ения психологической помощи и социально-педагогической поддержки в УО по месту обучения несовершеннолетн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ения психиатрической (психотерапевтической) и психологической помощи в организации здравоохранения, оказывающей указанные виды помощи, по месту жительства (месту пребывания) несовершеннолетн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ения доступа к информации глобальной компьютерной сети Интернет, которая может причинить вред здоровью и развитию детей, поставщиками интернет-услуг по запросу пользователей, а также путем установления на персональный компьютер программного обеспечения с функцией «родительского контрол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user\Desktop\5.jpg"/>
          <p:cNvPicPr/>
          <p:nvPr/>
        </p:nvPicPr>
        <p:blipFill>
          <a:blip r:embed="rId1"/>
          <a:stretch/>
        </p:blipFill>
        <p:spPr>
          <a:xfrm>
            <a:off x="1500120" y="4500720"/>
            <a:ext cx="606924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 профилактики при выявлении факторов риска суицидальных действий у несовершеннолетнего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исьменного согласия законного представителя несовершеннолетнего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енного по форме согласно приложени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одного рабочего д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авляют информацию о несовершеннолетнем в учреждение образования по месту обучения несовершеннолетнего, организацию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ую психиатрическ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сихотерапевтическую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ую помощь, по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ьства (месту пребыв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user\Desktop\99.jpg"/>
          <p:cNvPicPr/>
          <p:nvPr/>
        </p:nvPicPr>
        <p:blipFill>
          <a:blip r:embed="rId1"/>
          <a:stretch/>
        </p:blipFill>
        <p:spPr>
          <a:xfrm>
            <a:off x="557208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85840"/>
            <a:ext cx="8686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родителей на уведомление 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к Инструкции о порядке действий работников УО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трудников ОВД при выявлении факторов ри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альных действий у несовершеннолет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ю 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                             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И.О. (если таковое име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менование учреждения образования, здравоохра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И.О. (если таковое имеется) законного представител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проживания 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_____________________________________, согласен с представлением сведений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И.О.законного представител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ем 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И.О. (если таковое имеется) несовершеннолетне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____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менование учреждения образования, здравоохран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                   _____________________                      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    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та)                                                  (подпись)                                    (инициалы, фами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4200" y="428760"/>
            <a:ext cx="8715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и, предоставляемой учреждению здравоохранения, оказывающего психиатрическую (психотерапевтическую) и психологическую помощь, по факту выявленного несовершеннолетнего, склонного к совершению суицидальных действий, указываются следующие да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собственное имя, отчество (если таковое имеется) несовершеннолетне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места жительства (места пребывания) несовершеннолетн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его законных представител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ся факторы риска суицидальных действий у несовершеннолетнего, проявления суицидальн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5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ятые меры, их эффе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ыявления факторов риска суицидальных действий у несовершеннолетнего либо получения соответствующей информации педагогические работник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одного рабочего дня с момента выявления или поступлен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ют несовершеннолетнему, его законному представителю психологическую помощь и социально-педагогическую поддержку в У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лучае их соглас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еспечивают оказание несовершеннолетнему и его законному представителю психологической помощи и социально-педагогической поддержки в учреждени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конный представитель отказывается от индивидуальной психологической работы ребенком (письменно), необходимо организовать работу с несовершеннолетним   в рамках групповых профилактических и просветительских занятий (Закон РБ «Об оказании психологической помощ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C:\Users\user\Desktop\vihodnoy.png"/>
          <p:cNvPicPr/>
          <p:nvPr/>
        </p:nvPicPr>
        <p:blipFill>
          <a:blip r:embed="rId1"/>
          <a:stretch/>
        </p:blipFill>
        <p:spPr>
          <a:xfrm>
            <a:off x="714240" y="4643280"/>
            <a:ext cx="7858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еспублики Беларусь от 13 марта 2008 г. №12-01-11/1260 «О проведении Всемирного дня предотвращения самоубий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комендации Всемирной организации здравоохранения принято считать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 сентября каждого года Всемирным днем предотвращения самоуби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 всего вышеизложенного Министерство образования Республики Беларусь считает целесообразным проводить во всех учреждениях образования мероприятия для обучающихся и родителей, посвященные Всемирному дню предотвращения самоубийств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же необходимо проводить месячник по предупреждению самоубий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лан месячника предложено включать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детей, родителей и специалистов в днях открытых дверей и ознакомление их с формами и методами работы по предупреждению суици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упления специалистов перед учителями, родителями и обучающими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нкурсов наглядных материалов, творческих работ, методических разработок по укреплению психического здоровья и предупреждению факторов риска суицидального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ткрытых воспитательных мероприятий, научно-практических конференций  учащихся по данной проблемат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их конференций (в учреждениях образования, районны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совых спортивных праздников, походов, экскурсий для детей и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ежведомственных комиссий и совместное обследование детей, проявляющих внешние признаки суицидального поведения, воспитывающихся в неблагополучных семьях, переживших утрату одного родителя или близкого члена семьи; занимающих низкостатусные позиции в коллективе; испытывающих психологическое насилие или некорректное обращение со стороны близких или сверстников, не имеющих друзей,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Y1frpjkJfa4.jpg"/>
          <p:cNvPicPr/>
          <p:nvPr/>
        </p:nvPicPr>
        <p:blipFill>
          <a:blip r:embed="rId1"/>
          <a:stretch/>
        </p:blipFill>
        <p:spPr>
          <a:xfrm>
            <a:off x="2000160" y="1928880"/>
            <a:ext cx="47516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работы по профилактике суицидоопасного поведения необходимо руководствоваться следующими нормативными правовыми актами РБ, методическими материалами, пись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кон Республики Беларусь от 1 июля 2010 г. № 153-З «Об оказании психологической помощ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ановление Министерства здравоохранения Республики Беларусь, Министерства образования Республики Беларусь и Министерства внутренних дел Республики Беларусь от 15 января 2019 г. № 7/5/13 «Об утверждении Инструкции о порядке действий работников учреждений образования, здравоохранения и сотрудников органов внутренних дел при выявлении факторов риска суицидальных действий у несовершеннолетних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лгоритм действий работников учреждений образования, здравоохранения и органов внутренних дел при выявлении несовершеннолетних, склонных к суицидоопасному повед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ческие рекомендации по организации работы по профилактике суицидального поведения обучающихся и вовлечения детей и подростков в активные деструктивные сообщества и игры (ИМП 2017-201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исьмо Министерства образования Республики Беларусь от 13 марта 2008 г. №12-01-11/1260 «О проведении Всемирного дня предотвращения самоубийств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нструктивно-методическое письмо ГУО «Гомельский областной институт развития образования» №01-32/2/414 от 29.05.2012 «О рекомендациях к проведению диагностических мероприятий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ебно-методическое пособие Сакович Н.А «Суицидальное поведение подростка: профилактика и коррекция», ГУО «Академия последипломного образования» Минск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т.15 Закона РБ от 01.07.2010 № 153-З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казании психологиче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олученная при оказании психологической помощи, а также факт обращения за оказанием психологической помощи являю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й тай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, составляющие профессиональную тайну, могут быть сообщены психологом третьим лицам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с согласия гражданина, обратившегося за оказанием психологической помощи, или его законного представ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статьей предусмотрены случаи, при котор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имеет право сообщить информацию третьему лицу без согласия гражданина, обратившегося за помощью или его законного представителя по письменным запрос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ов, ведущих уголовный проце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ководителей органов или учреждений, исполняющих наказание и иные меры уголовной ответ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ководителей государственных организаций здравоохранения, оказывающих психотерапевтическую, психиатрическую, наркологическую, сексологическую помощ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ководителей учреждений образования в целях улучшения условий организации обучения и воспитания обучающихся (воспитанников) этих учрежд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ных работников в связи с проведением ими научных исследований или специалистов, занимающихся педагогической деятельностью в области психологии, психотерапии, психиатрии, секс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статьей 18 Закона РБ «Об оказании психологической помощи» предусмотрены условия оказания психологической помощ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помощь гражданину о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его согласия, а несовершеннолетним в возрасте до четырнадцати лет – также с согласия одного из законных представ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 исключением отдельных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м в возрасте до 14 лет согласия законных представителей не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установлении фактов жестокого обращения, физического, психического, сексуального насилия в отношении несовершеннолетн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лучае признания несовершеннолетнего находящимся в СОП, НГ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оказании психологической помощи в виде психологического просвещения и психологической профилактики в УО и организациях здравоохра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лучае принудительного оказания медицинской помощи несовершеннолетним, страдающим психическими и поведенческими расстройств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вершеннолетним, находящимся в СЛ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обращении за оказанием психологической помощи аноним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user\Desktop\1.png"/>
          <p:cNvPicPr/>
          <p:nvPr/>
        </p:nvPicPr>
        <p:blipFill>
          <a:blip r:embed="rId1"/>
          <a:stretch/>
        </p:blipFill>
        <p:spPr>
          <a:xfrm>
            <a:off x="6786720" y="4643280"/>
            <a:ext cx="17366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200" y="142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тодическим рекомендациям по организации работы по профилактике суицидального поведения обучающихся и вовлечения детей и подростков в активные деструктивные сообщества и игры (ИМП 2017-2018), деятельность в УО по профилактике суицидоопасного поведения несовершеннолетних должна включ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вичный (общий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одится на протяжении учебного года, согласно разработанному плану по профилактике суицидоопасного поведения учащихся. Направлена на воспитание позитивно ориентированной личности, формирование культуры ЗОЖ. Необходимо привлекать специалистов различных сфер: здравоохранения, ОВД, представителей общественных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торичны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одится в начале учебного года (до 1 ноября), а также при поступлении информации о несовершеннолетнем, склонном к суициду. На данном мероприятия должны быть направлены на изучение учащихся с учетом их личностных особенностей, модели поведения, кризисных ситуаций или негативных жизненных соб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етичный эта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направлен н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последствий и уменьшение вероятности парасуицидов, включает в себя социально-педагогическую поддержку и психологическую помощь суициденту и его социальному окруж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user\Desktop\suicide.jpg"/>
          <p:cNvPicPr/>
          <p:nvPr/>
        </p:nvPicPr>
        <p:blipFill>
          <a:blip r:embed="rId1"/>
          <a:stretch/>
        </p:blipFill>
        <p:spPr>
          <a:xfrm>
            <a:off x="6000840" y="5429160"/>
            <a:ext cx="27921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21420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ожении 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ических рекомендаций по организации работы по профилактике суицидального поведения обучающихся и вовлечения детей и подростков в активные деструктивные сообщества и игры (ИМП 2017-2018) предложен методический инструментарий по выявлению суицидального поведения у несовершеннолетни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ст-анкета для самооценки школьниками факторов риска ухудшения здоровья (методика Н.К. Смирно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осник «Предварительная оценка состояния психического здоровь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одика самооценки школьных ситуаций, разработана по принципу «Шкалы социально-ситуативной тревоги» О.Кондаша (197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Шкала тревоги Ч.Д.Спилбергер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TraitAnxietyInventory - STAI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кала тревожности Р.Сир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тодика определения уровня депрессии (В.А. Жму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кала безнадежности (депрессии) А.Бека(англ. BeckHopelessnessInventory, сокр. BH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Тест «Ваши суицидальные наклонности» (З. Королё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етодика определения степени риска совершения суицида (И.А. Погоди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«Опросник суицидального риска» (модификация Т.Н. Разуваево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Тест выявления суицидального риска у детей (А.А. Кучер, В.П. Костюкевич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етодика диагностики стресс-совладающего поведения (Д. Амирха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атохарактерологический опросник (А.Е.Лич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Тест фрустрационной толерантности (С.Розенцвейг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просник агрессивности (Buss-DurkeyInventory) разработан А. Бассом и А. Дарки в 1957 г. и предназначен для диагностики агрессивных и враждебных реа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етод цветовых выборов, адаптированный Л.Н.Собч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Метод незаконченных предложений С.И.Подмаз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Шкала определения уровня депрессии, разработана В. Зунга иадаптирована Т.Н. Балаш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35712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ГУО «Гомельский областной институт развития образования» №01-32/2/414 от 29.05.2012                           «О рекомендациях к проведению диагностических мероприят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вышеуказанным инструктивно-методическим письмом, рекомендовано использовать следующий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сиходиагностических методов и методик, направленных на раннее выявление детей и подростков, склонных к совершению аутоагрессивных и суицидальных действ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социометрического стату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самооценки личности «Экспресс-диагностика уровня самооценк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безнадежности Б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наблюдений педагогов, сверстников, родителей за изменением поведения отдельных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качественного анализа данных психодиагностического  исследования несовершеннолетних должен явить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исок учащихся, находящихся в группе р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user\Desktop\watercolour-2168655_1920.jpg"/>
          <p:cNvPicPr/>
          <p:nvPr/>
        </p:nvPicPr>
        <p:blipFill>
          <a:blip r:embed="rId1"/>
          <a:stretch/>
        </p:blipFill>
        <p:spPr>
          <a:xfrm>
            <a:off x="4929120" y="5214960"/>
            <a:ext cx="2357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2920" y="285480"/>
            <a:ext cx="8786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е пособие Сакович Н.А «Суицидальное поведение подростка: профилактика и коррекция». Разработка ГУО «Академия последиплом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ая документация специалистов социально-педагогической и психологической службы по профилактике суицидоопасного поведения несовершеннолетних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план работы месячника по предотвращению самоубийств среди детей и подростков. План включает мероприятия для учащихся, родителей,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данных об учащихся группы суицидального рис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диагностические материалы учащихся группы суицидального рис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индивидуального сопровождения учащихся группы суицидального рис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, педагогам, классным руководителям по взаимодействию с учащимися группы суицидального рис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ские материалы для учащихся, родителей,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-предметников, классных руководи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актике суицидов, пропагандир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жизни, позитивное мировосприя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ходят в методическую копилку педагога-психолог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ser\Desktop\33.jpg"/>
          <p:cNvPicPr/>
          <p:nvPr/>
        </p:nvPicPr>
        <p:blipFill>
          <a:blip r:embed="rId1"/>
          <a:stretch/>
        </p:blipFill>
        <p:spPr>
          <a:xfrm>
            <a:off x="5929200" y="3714840"/>
            <a:ext cx="2857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28584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Министерства здравоохранения РБ, Министерства образования РБ и МВД РБ от 15.01.2019 «Об утверждении Инструкции о порядке действий работников учреждений образования, здравоохранения и сотрудников органов внутренних дел при выявлении факторов риска суицидальных действий у несовершеннолетних» (далее - Постано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вышеуказанного Постановления Министерство образования РБ направило для использования алгоритм действий работников учреждений образования, здравоохранения и органов внутренних дел при выявлении несовершеннолетних, склонных к суицидоопасному поведению (далее – Алгорит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Алгоритмом выявление несовершеннолетних, склонных к суицидоопасному поведению, педагогическими работниками осущест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с несовершеннолетними индивидуальной профилактической работы, в том числе при посещении на д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лучении информации об аутоагрессивном поведении несовершеннолетнего в ходе мониторинга  сети Интернет либо при поступлении заявлений гражд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бесед с обучающимися, наблюдении за ними, получении информации в отношении несовершеннолетних от третьих лиц (одноклассников, друзей, родственников) о склонности к суицидоопасному повед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психодиагностического исследования суицидального поведения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21-04-25T16:04:11Z</dcterms:modified>
  <cp:revision>77</cp:revision>
  <dc:subject/>
  <dc:title>Diapositiva 1</dc:title>
</cp:coreProperties>
</file>